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4B4C-84C9-44A0-B9B2-0C8352E8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6A74-5E37-439F-9324-2A16DE895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7D72-C164-4611-B52F-D4BA2FC87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5A4B-0065-4BBE-B0DD-79D3C506D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E35D-D6B1-4E0E-952A-2105BDB31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6FE1-7516-42EB-A4F1-F02EECBAE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36F0-DC76-45F1-983A-5CDA2FDFC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74A1-3431-4161-987C-B0709EDF6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406A-F82E-4450-8119-7C81E7913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A790-0666-45F5-AE55-A5EF5BCBD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9FD2-7F97-46A3-A7AF-5159D6739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D9D8-E620-46CE-AECA-8F5E2CA12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3A25-0D75-4D75-87BB-98FFE93D3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D377-425D-47C4-B207-14B9ECA48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CDF67-CD06-4672-955C-6CF4DCEF0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C4CD-612C-4DE5-A28D-24723A20F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57D3-4CDC-4599-86DF-1005011D5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DDBB-1922-4CB4-A526-DA7B38B9D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5469-DCED-4A22-B844-5A4C4F7759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E8FB-1EC6-4D18-BDF4-0DAA2C4E2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4615-3C7E-4A9F-99B5-73EC10BAB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1E4F4-D13F-435E-8A32-4304AAD78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A834-4CEE-486C-87BB-2516CADD1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8A36-F0F7-4E27-848C-898A5E64A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5E52-D151-485E-9E95-A078B5FE4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4F45-3E98-4499-826D-4163AC180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60AB-7092-4848-A0BB-03746380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C83F-61A3-4799-8892-7C882FE9B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ourt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14-1.jpg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42F6-DBE8-4442-9E8F-EE14AE7F1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refers to the relationships that managers develop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can provide leadership to help to attain group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liaisons within and outside th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figureh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31D7-CB35-4E28-9561-926446368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. Informat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onitor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seminate information to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a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083E-1396-4D4B-AD90-902F06DC0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. Decis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ake decisions about people, goals, and the means to atta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is capacity they act as entrepreneur, resource allocator, negotiator and trouble-sho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4-6.jpg"/>
          <p:cNvPicPr/>
          <p:nvPr/>
        </p:nvPicPr>
        <p:blipFill>
          <a:blip r:embed="rId1"/>
          <a:stretch/>
        </p:blipFill>
        <p:spPr>
          <a:xfrm>
            <a:off x="5219640" y="1752480"/>
            <a:ext cx="39243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65FC-BEF9-4394-9715-8BAD6DFC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Functions of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4-7.jpg"/>
          <p:cNvPicPr/>
          <p:nvPr/>
        </p:nvPicPr>
        <p:blipFill>
          <a:blip r:embed="rId1"/>
          <a:stretch/>
        </p:blipFill>
        <p:spPr>
          <a:xfrm>
            <a:off x="5029200" y="2362320"/>
            <a:ext cx="332892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3F5E-602B-46FE-8884-BA7D400D1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the activities of the organization and its members are monitored to ensure they contribute positively to the attainment of organization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systems that ensure that the efforts of individuals working on major tasks are efficiently and effectively coordinated and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8550-EABB-4498-B777-B292246AE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ng the direction towards which the efforts of individuals are to be direc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luencing the actions of others such that these actions are coordinated to produce the desired outco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ng as a role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piring a shared vi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llenging the status quo and                                encouraging others to do 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gnizing contribu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2E40-1173-4D94-B9B5-6EF9C3E54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Management Skill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set of actions that individuals perform and that lead to certain outcom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bal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time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le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m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086000" y="5637240"/>
            <a:ext cx="1727640" cy="368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abl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14-8.jpg"/>
          <p:cNvPicPr/>
          <p:nvPr/>
        </p:nvPicPr>
        <p:blipFill>
          <a:blip r:embed="rId1"/>
          <a:stretch/>
        </p:blipFill>
        <p:spPr>
          <a:xfrm>
            <a:off x="5513400" y="1600200"/>
            <a:ext cx="36306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4678-D394-4A2E-9131-45F9E1258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motional Intelligen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bility to manage your own and others’ emotions and your relationship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Five set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or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79E6-2C47-4A3C-AE5C-768FF81E6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management development programs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kill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pplication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14-9.jpg"/>
          <p:cNvPicPr/>
          <p:nvPr/>
        </p:nvPicPr>
        <p:blipFill>
          <a:blip r:embed="rId1"/>
          <a:stretch/>
        </p:blipFill>
        <p:spPr>
          <a:xfrm>
            <a:off x="5943600" y="2209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8DE8-1444-4BD0-B86D-BAA03A889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trengths and weaknesses of managers relative to the specific skills to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s to training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managers’ learning and behavioural sty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E2E7-7AA2-49BD-9524-C841E76A9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anagement and management development and explain how it is different from employe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in, roles, functions, and critical skills of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emotional intelligence and its relevance f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odels of management skil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use of error-management training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ntent of management skills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9E44-E5CB-4645-98CF-02DA32926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cquisition (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ead of being taught specific procedures or steps, managers learn how to recognize the need for the skill in a diverse number of circumsta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involves group discussion of opportunities, obstacles, and strategies pertaining to skill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learning principles, not specific approach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712880" indent="-39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ive is to promote procedur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5EF9-88E7-40DD-86F6-E17E66055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erves three fundamental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s learning and shifts learning from the declarative to the procedural learning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trainees’ interest, attention and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61D5-EA47-4157-8574-41C60960A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pplication on the Job (Trans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raining managers                              establish specific plans for the                   application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s, coaching and                      reinforcement are frequently                      required to ensur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14-10.jpg"/>
          <p:cNvPicPr/>
          <p:nvPr/>
        </p:nvPicPr>
        <p:blipFill>
          <a:blip r:embed="rId1"/>
          <a:stretch/>
        </p:blipFill>
        <p:spPr>
          <a:xfrm>
            <a:off x="6324480" y="228600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F5BC-68CF-4BAB-BBE5-2C480233F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 Training for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has been found to be more effective when trainee has to generalize learning to new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for jobs that require-problem solving skills, where reproduction of learned behaviour is not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jobs require constant adaptation to an ever-changing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must be able to use new skills flexibly in a variety of contexts (adaptive expert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more effective in producing adaptive expertise and therefore advisable to consider for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28F9-E276-42D9-8223-831A41E0D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Content of Management Development Program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skills can be organized in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problem solving and decision making, planning, and performanc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using Excel, PowerPoint, knowing tax la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communication, managing conflict and st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DAC5-AFB2-498C-8A7F-A2C441CF8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training methods tend to rely on highly informational and highly experientia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al and focused on the principles and applications of the skill or techniques being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s, readings, informative videos, and group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s that include skill practice exercises that actively engage and involve the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lays, active exercises, and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procedural knowledge &amp; boosts self-eff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FC80-83F8-44F3-AC3D-0009D2CDC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 and experiential components are present in mos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the two is not always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school DVD is mostly 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door education is mostly experi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general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82D7-94B6-493F-BC4A-194DA4FA7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quisition of a broad range of managerial knowledge and general conceptual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conducted by colleges and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BA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nd case studies key 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4EA1-7422-4CE0-B577-6FCD7CFBD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nd activities designed to                              develop specific manager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lassroom based and Outdoor wilderness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teamwork and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designed to provide individuals with managerial learning experiences on-the-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Job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BED8-102B-4E19-8EDA-9FC08C282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coaching characteristic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listeners, empathy, interest in helping                           people achieve thei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to “feel” the mood of learner,                                            know when to listen and when to challenge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learner use his/her previous knowledge and experience to develop his /her own perspective, understanding, and styles in dealing with the problems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B8CF-A1F3-4C73-8E48-CC630B055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t type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outdoor wilderness training programs and their effectiveness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job rotation and coaching and discuss the characteristics of great coaches, the five conditions that are necessary to ensure the development of managers, and the challenges of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research on the effectivenes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C56B-DB6E-4C8E-ACAF-3191AAF23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es are maximally helpful when they structure their efforts to help managers devel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their own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and caring about changing the ways in which they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resources/best practices for dealing with complex decisions and situations and by exploring alternative ways of dealing with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3D2F-1315-4567-BB2C-3A29E8845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worl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opportunities to implement, on a day-to-day basis, the little changes that should be made and to develop the critical perspective needed to assess what works, what does not, and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ing the manager to demonstrate the new skills and knowledge through commitment to specific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9995-38BA-4A1A-BB64-028C9A919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hieve these objectives, coaches face a number of challen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 must act to gain trust of “coache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confidentiality, discretion, hone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developing trust it becomes easier for coach to provid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pplying new skills is fraught with obstacles and hurdles that can discourage the use of new skills, a coach needs to be attentive to these situations and help managerial pers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elf-effic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e obstacles as “problems” rather than fail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mo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00D6-74F8-48A5-85F4-73F3AF10D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47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es who are in a position to do so sometimes intervene elsewhere in the organization to remov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aches in better position to do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s have shown that coaching is generally perceived as an effective tool for management development albeit these findings are drawn more from self-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BFDC-D718-4529-9786-290835C5A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ffectiveness of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ety of studies as well as more formal meta-analysis indicate varying levels of effectiveness for management development programs and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 results show that management development programs do contribute to organizational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/3 of Canadian organizations have systematic coaching and mentoring programs and consider them effective l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research studies will continue to explore the question of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CE2B-CC52-4D02-9F05-99060B486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s, functions, and critical skills of manager and how they are developed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nagement skills that management development programs are designed to teach was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el of management development (assessment, acquisition, practice, and application)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and most common delivery methods of management development programs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such as outdoor education, job-rotation and coach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0B6E-A9B8-4043-ACF8-AE5B2E355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getting things done, efficiently and effectively, through and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4-2.jpg"/>
          <p:cNvPicPr/>
          <p:nvPr/>
        </p:nvPicPr>
        <p:blipFill>
          <a:blip r:embed="rId1"/>
          <a:stretch/>
        </p:blipFill>
        <p:spPr>
          <a:xfrm>
            <a:off x="3886200" y="2819520"/>
            <a:ext cx="474984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26D0-4826-4FC5-8706-AF7E4CF3C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133720" y="1676520"/>
            <a:ext cx="5257800" cy="4251240"/>
          </a:xfrm>
          <a:prstGeom prst="rect">
            <a:avLst/>
          </a:prstGeom>
          <a:solidFill>
            <a:srgbClr val="b2b2b2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743200" y="2286000"/>
            <a:ext cx="3949560" cy="3048120"/>
          </a:xfrm>
          <a:prstGeom prst="rect">
            <a:avLst/>
          </a:prstGeom>
          <a:solidFill>
            <a:srgbClr val="c0c0c0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76720" y="2819520"/>
            <a:ext cx="2819160" cy="20574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3920" y="3352680"/>
            <a:ext cx="190476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33720" y="1676520"/>
            <a:ext cx="16002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"/>
          <p:cNvSpPr/>
          <p:nvPr/>
        </p:nvSpPr>
        <p:spPr>
          <a:xfrm flipH="1">
            <a:off x="5638320" y="1676520"/>
            <a:ext cx="17528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3919680" y="274176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700960" y="322740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339000" y="323856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4161600" y="4456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177080" y="2376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820960" y="2889360"/>
            <a:ext cx="320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6288480" y="2754360"/>
            <a:ext cx="34524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741840" y="1636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853320" y="2325600"/>
            <a:ext cx="3711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2262240" y="2535120"/>
            <a:ext cx="333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4039920" y="5408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5638680" y="4419720"/>
            <a:ext cx="17528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1"/>
          <p:cNvSpPr/>
          <p:nvPr/>
        </p:nvSpPr>
        <p:spPr>
          <a:xfrm flipV="1">
            <a:off x="2133720" y="4419360"/>
            <a:ext cx="1600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144000" y="5599080"/>
            <a:ext cx="18039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igur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9096-3B7A-4007-BEB7-0543553C7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vs. Employee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work mainly throug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design techniques tend to b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ial personalities must be taken into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ment development is a longitudi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ique strategic significance of developing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5598-230F-456E-8F9E-DAACC5EDA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What is Management Development?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process by which individuals learn to perform effectively in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Management Developmen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 capita training expenditures are greater for managers than any other category of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porate expenditures on management development are estimated at $45 billion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ager’s rol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al rol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B093-4A27-46F7-AC55-048A1C7F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 and Leadership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qualities and behaviours required to shape the direction of the organization and that inspire others to pursue that direction in the face of obstacles an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4-3.jpg"/>
          <p:cNvPicPr/>
          <p:nvPr/>
        </p:nvPicPr>
        <p:blipFill>
          <a:blip r:embed="rId1"/>
          <a:stretch/>
        </p:blipFill>
        <p:spPr>
          <a:xfrm>
            <a:off x="5257800" y="1676520"/>
            <a:ext cx="2751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5147-0977-4DEB-BDD5-A773E3D5D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jor roles of manag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cis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14-4.jpg"/>
          <p:cNvPicPr/>
          <p:nvPr/>
        </p:nvPicPr>
        <p:blipFill>
          <a:blip r:embed="rId1"/>
          <a:stretch/>
        </p:blipFill>
        <p:spPr>
          <a:xfrm>
            <a:off x="4648320" y="2590920"/>
            <a:ext cx="3994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08:08Z</dcterms:modified>
  <cp:revision>355</cp:revision>
  <dc:subject/>
  <dc:title>Ch 14</dc:title>
</cp:coreProperties>
</file>